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1.png" ContentType="image/png"/>
  <Override PartName="/ppt/media/image19.jpeg" ContentType="image/jpeg"/>
  <Override PartName="/ppt/media/image42.jpeg" ContentType="image/jpeg"/>
  <Override PartName="/ppt/media/image26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25.wmf" ContentType="image/x-wmf"/>
  <Override PartName="/ppt/media/image8.jpeg" ContentType="image/jpeg"/>
  <Override PartName="/ppt/media/image43.jpeg" ContentType="image/jpeg"/>
  <Override PartName="/ppt/media/image5.png" ContentType="image/png"/>
  <Override PartName="/ppt/media/image30.wmf" ContentType="image/x-wmf"/>
  <Override PartName="/ppt/media/image6.jpeg" ContentType="image/jpeg"/>
  <Override PartName="/ppt/media/image32.png" ContentType="image/png"/>
  <Override PartName="/ppt/media/image34.wmf" ContentType="image/x-wmf"/>
  <Override PartName="/ppt/media/image35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37.wmf" ContentType="image/x-wmf"/>
  <Override PartName="/ppt/media/image39.wmf" ContentType="image/x-wmf"/>
  <Override PartName="/ppt/media/image41.png" ContentType="image/png"/>
  <Override PartName="/ppt/media/image40.jpeg" ContentType="image/jpeg"/>
  <Override PartName="/ppt/media/image44.jpeg" ContentType="image/jpeg"/>
  <Override PartName="/ppt/media/image36.wmf" ContentType="image/x-wmf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31.wmf" ContentType="image/x-wmf"/>
  <Override PartName="/ppt/media/image7.jpeg" ContentType="image/jpeg"/>
  <Override PartName="/ppt/media/image23.wmf" ContentType="image/x-wmf"/>
  <Override PartName="/ppt/media/image28.jpeg" ContentType="image/jpeg"/>
  <Override PartName="/ppt/media/image38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439B3A-71C0-42FA-B709-D329E5AF3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C361B8-1B6E-468A-BA8C-07FBF16EC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CEF1EB-23BD-4126-9FB9-07603A34A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2253E6-28E5-4256-9255-6A5453815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F20B78-4E3D-4282-90AA-9438D6A90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8CE034-6D3F-4D47-B636-96F1C9C4F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96282E-ADB6-4150-B425-886119C41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AF09FE-8435-4F49-BA75-EE803F802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C5FE1F-3B83-4700-BF7E-336F7F3C9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0ABD9D-0A34-4452-8597-8330363B5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79B01D-201D-40D7-9C11-39B25388E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C91C42-F874-4D77-8AE1-7F0201196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DD918A-C384-4CA8-AEF0-5A6154824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2750D4-08E7-4F20-9ABD-74BB444B9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5BE75D-119F-4ABB-8FD6-5D2E4D7BD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7E17A4-2233-4D5A-B182-97E8A99D4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E2B174-E419-4502-93E9-E5A00FFB0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51D0E1-4950-47A8-BA26-4AA825212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B50D33-DF8E-4BD4-A3A2-24AEDC83A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B7AEBF-00E5-4B96-AD84-B9021FEE8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FE02A9-E315-41CC-BFD7-E3EBAC957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648E30-576C-4C4A-8E7B-CE295FEFC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480D5E-D337-468A-817D-3CAC9E2A8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37DAE7-52EC-4A9A-B7B9-F73CC1F9F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799F52-51FE-4873-8102-408B029F5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333CE-5B60-40FA-AB08-BEAA49806E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960BB-3581-42B8-971F-D8865B1C2C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D8F32-BFDA-4912-B95F-6E9D694105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3994F-6CF5-4B8F-97A5-4756605F4A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2102-ABFA-431B-B3DB-E4E9D60E45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56DE-20E3-4A2B-BD81-49296E6707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BDE5-399F-4088-84D4-4793CB44F0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4487-FF59-4C5E-9F4E-6CD971741C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9361-CC64-4622-90B5-E77D1D57C4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45FA-3A0D-4899-B399-085BE451A6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2057-E0C2-4C10-98B2-E16306CEEB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835C7-7A48-439C-B3E4-0FC1F635E5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EF4B-EC24-4934-BDAD-0D1A79165F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3B68-BD6A-4B94-A673-EA733963C8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1E17-E070-4F2A-A3DC-D499C57D55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3DC6-FD62-4F48-876E-8F5A23A43E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F892-4376-41F9-ABC6-5E2A7D7FBA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56A0A-7681-4EAF-925C-4A7B7019C8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520FC-EA50-41F7-B467-2B4D082CB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F42C6-1ED2-420A-9F1B-A8A57F349E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8C683-90A6-4CF0-B614-7F88BE5B52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631C1-99C5-440A-80D7-1B47317974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8DF5D-65B1-4FB6-B377-F02A79B513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DDAB8-3A42-4275-BE44-9E758C95FC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DADC-7E3E-497C-80F5-4BC7C61F56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15E1-67B9-4CBF-B1ED-5B5213789F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28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Organis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4103-F4BC-4308-9AF3-B362B8F2ED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04920" y="3808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Cheminement de l’échant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7" descr="Capture3"/>
          <p:cNvPicPr/>
          <p:nvPr/>
        </p:nvPicPr>
        <p:blipFill>
          <a:blip r:embed="rId1"/>
          <a:srcRect l="0" t="16987" r="0" b="0"/>
          <a:stretch/>
        </p:blipFill>
        <p:spPr>
          <a:xfrm>
            <a:off x="228600" y="1523880"/>
            <a:ext cx="8381880" cy="37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ADC7-C5A9-4F18-90A9-F70548628C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3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Organization Chart 3"/>
          <p:cNvGrpSpPr/>
          <p:nvPr/>
        </p:nvGrpSpPr>
        <p:grpSpPr>
          <a:xfrm>
            <a:off x="380880" y="1935000"/>
            <a:ext cx="6172200" cy="3773520"/>
            <a:chOff x="380880" y="1935000"/>
            <a:chExt cx="6172200" cy="3773520"/>
          </a:xfrm>
        </p:grpSpPr>
        <p:sp>
          <p:nvSpPr>
            <p:cNvPr id="205" name="AutoShape 4"/>
            <p:cNvSpPr/>
            <p:nvPr/>
          </p:nvSpPr>
          <p:spPr>
            <a:xfrm>
              <a:off x="380880" y="1935000"/>
              <a:ext cx="6172200" cy="37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6" name="_s1029"/>
            <p:cNvCxnSpPr>
              <a:stCxn id="207" idx="1"/>
              <a:endCxn id="208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09" name="_s1031"/>
            <p:cNvCxnSpPr>
              <a:stCxn id="210" idx="3"/>
              <a:endCxn id="208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1" name="_s1032"/>
            <p:cNvCxnSpPr>
              <a:stCxn id="208" idx="0"/>
              <a:endCxn id="212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3" name="_s1034"/>
            <p:cNvCxnSpPr>
              <a:stCxn id="214" idx="0"/>
              <a:endCxn id="215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6" name="_s1035"/>
            <p:cNvCxnSpPr>
              <a:stCxn id="212" idx="0"/>
              <a:endCxn id="215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15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Directeur</a:t>
              </a:r>
              <a:br>
                <a:rPr sz="2200"/>
              </a:b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 laboratoi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Biologis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 respons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Responsable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 qualité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en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Line 40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2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4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5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 surveil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6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7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50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Directeur d’hô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47B6-9061-4C64-9DCE-D9B8D03259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xigence ISO15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responsabilité et l’autorité pour supervis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apporte directement aux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j0240719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5ABD-8D1F-46A0-9F6C-C10CC8AD77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u 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trôler 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ur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oir tous les regis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et coordonner l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hercher les défic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former les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3665-C02F-43A0-9648-2DA2F1C1FD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approches varien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elon la situation lo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nombreux facteur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fluencent le poin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dé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lure tous les élément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ns l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ut être mis en oeuv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r é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5" descr="MCBD07022_0000[1]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0CAD-6D9C-4389-B5ED-15F58CC97B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MCj00905430000[1]"/>
          <p:cNvPicPr/>
          <p:nvPr/>
        </p:nvPicPr>
        <p:blipFill>
          <a:blip r:embed="rId1"/>
          <a:srcRect l="45571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Gardez à l’espr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muniquer, soyez trans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des échéanc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ais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des objectif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 et mesu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priorités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er par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5509-2EAF-4EE5-B3CF-EFB5007435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0" descr="19_gap_analysis"/>
          <p:cNvPicPr/>
          <p:nvPr/>
        </p:nvPicPr>
        <p:blipFill>
          <a:blip r:embed="rId1"/>
          <a:stretch/>
        </p:blipFill>
        <p:spPr>
          <a:xfrm>
            <a:off x="5181480" y="2666880"/>
            <a:ext cx="3733920" cy="2880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5960" y="13716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r les carences en utilisant une check-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une list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e tâ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des priorité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bord ce qui peu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être résolu rapid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er ce qui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ra le plus d’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duire une analyse des carences (Gap analysis)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4876920" y="21337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Analyse des carence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32CA-D955-4FAD-9CFE-0A97313547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 des ca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oblèmes couramment identifié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emande d’analy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’échantill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iveau de formation du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sonnel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trôl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ocessus analy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nregistrement et compte-rendu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réactifs et de l’équipement demande 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MCj03983870000[1]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14B1-9EEF-447C-81AE-D50BBFC47B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daction du plan qui devrait contenir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e qui devrait être f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i sera respons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and (calendri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essources nécess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points de réfé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304920" y="5105520"/>
            <a:ext cx="868680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doit être disponible pour tout le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6F61-F8C6-4240-B168-C605B44EE6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MCj04325520000[1]"/>
          <p:cNvPicPr/>
          <p:nvPr/>
        </p:nvPicPr>
        <p:blipFill>
          <a:blip r:embed="rId1"/>
          <a:stretch/>
        </p:blipFill>
        <p:spPr>
          <a:xfrm>
            <a:off x="5867280" y="3886200"/>
            <a:ext cx="3124440" cy="33526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engager à term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parer une mise en oeuvre par ét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s ressources sont dispon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un 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chacun connait s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uis al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3124080" y="6156360"/>
            <a:ext cx="350532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commen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BFD1-6796-48B1-84BA-8FBAC92C09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 les participants seront en mesure d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crire les éléments organisationnels nécessaires à un système de gestion de la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scuter  les rôles et les responsabilités dans un système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e processus de conception, de mise en œuvre, de maintenance et d’amélioration du système qualité au laborato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’intérêt d’un 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45FA2-9CB0-429C-9CF9-FC8CBCD068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19_gnatt_chart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CA9B-B0EE-41E8-B6D9-6857F57FE1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Fournir des res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xigences financière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soins du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sonnel supplémenta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pétences, formation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stallations, équipement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, ordin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MCj01570510000[1]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pipetting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j0195384"/>
          <p:cNvPicPr/>
          <p:nvPr/>
        </p:nvPicPr>
        <p:blipFill>
          <a:blip r:embed="rId3"/>
          <a:stretch/>
        </p:blipFill>
        <p:spPr>
          <a:xfrm>
            <a:off x="5867280" y="4419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4657-A36C-46F6-9AE4-945E486EAE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6" descr="j0386161"/>
          <p:cNvPicPr/>
          <p:nvPr/>
        </p:nvPicPr>
        <p:blipFill>
          <a:blip r:embed="rId1"/>
          <a:stretch/>
        </p:blipFill>
        <p:spPr>
          <a:xfrm>
            <a:off x="6915240" y="1905120"/>
            <a:ext cx="2228760" cy="335268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conform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igner l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des indicateu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tablir un système de 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d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2" descr="MCj02120510000[1]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423C-CE51-4904-AFB4-DC16BDA14C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 Inte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meeting_asia_1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3DC8-7031-42CB-8F1A-F774C2E825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685800" y="457200"/>
            <a:ext cx="67057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e manuel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ocument qui décrit entièrement le système de gestion de la qualité d’une organis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pe essenti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sponsabilité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0" descr="manuals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FA4B-E003-45A6-9E57-FF4965E415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unique l’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rt de cadre pour répondre aux exigences du systèm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montre l’engagement de la direction dans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31F3-3E83-4A97-82F9-F08AE728F1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1" descr="MCPE07250_0000[1]"/>
          <p:cNvPicPr/>
          <p:nvPr/>
        </p:nvPicPr>
        <p:blipFill>
          <a:blip r:embed="rId1"/>
          <a:stretch/>
        </p:blipFill>
        <p:spPr>
          <a:xfrm>
            <a:off x="4419720" y="342900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enir à jour le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mmunique les lignes de condu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oit être approuvé par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quiert une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ise j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MCj04099450000[1]"/>
          <p:cNvPicPr/>
          <p:nvPr/>
        </p:nvPicPr>
        <p:blipFill>
          <a:blip r:embed="rId2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A4B3-42B2-4244-8A82-13C0358364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ne mise en oeuvre réussie requi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l’engagement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comprendre les bénéfices d’un système de gestion de la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engager le personnel à tous les nive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ayer d’améliorer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inuel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des attent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2" descr="meeting_africa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ce réservé du pied de page 2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811C-9B07-44E8-B43E-A0F288E469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0" descr="MCDD01419_0000[1]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8" descr="MCj02927140000[1]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5" descr="MCBS01762_0000[1]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6" descr="MCj03636380000[1]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16" name="Group 23"/>
          <p:cNvGrpSpPr/>
          <p:nvPr/>
        </p:nvGrpSpPr>
        <p:grpSpPr>
          <a:xfrm>
            <a:off x="4800600" y="2133720"/>
            <a:ext cx="4800600" cy="4390920"/>
            <a:chOff x="4800600" y="2133720"/>
            <a:chExt cx="4800600" cy="4390920"/>
          </a:xfrm>
        </p:grpSpPr>
        <p:sp>
          <p:nvSpPr>
            <p:cNvPr id="317" name="AutoShape 22"/>
            <p:cNvSpPr/>
            <p:nvPr/>
          </p:nvSpPr>
          <p:spPr>
            <a:xfrm>
              <a:off x="4800600" y="2133720"/>
              <a:ext cx="4800600" cy="43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195610"/>
            <p:cNvSpPr/>
            <p:nvPr/>
          </p:nvSpPr>
          <p:spPr>
            <a:xfrm>
              <a:off x="6339600" y="2752200"/>
              <a:ext cx="1722960" cy="2397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195611"/>
            <p:cNvSpPr/>
            <p:nvPr/>
          </p:nvSpPr>
          <p:spPr>
            <a:xfrm rot="7200000">
              <a:off x="6238080" y="3655800"/>
              <a:ext cx="2397600" cy="17233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195613"/>
            <p:cNvSpPr/>
            <p:nvPr/>
          </p:nvSpPr>
          <p:spPr>
            <a:xfrm rot="14400000">
              <a:off x="5767200" y="3658680"/>
              <a:ext cx="2397600" cy="17229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Picture 34" descr="bd20208_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5" descr="MCj04247500000[1]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36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7" descr="MCj02120510000[1]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38"/>
          <p:cNvSpPr/>
          <p:nvPr/>
        </p:nvSpPr>
        <p:spPr>
          <a:xfrm>
            <a:off x="152280" y="533520"/>
            <a:ext cx="381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0CAD-437E-4A0F-B93C-6D55311226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ssigner la responsabilité de la mise en pl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llouer des ressourc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velopper et distribuer un manuel qualité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mmencer la mise en place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trôler la conformité à la politique qualité et aux exigences du système de gestion de la quali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E822-7790-4229-8134-6E7D89EE6A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1610-DE3B-4CF1-BAAC-DE8C101D40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8" descr="MCj03963580000[1]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appelez v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Qualité n’est pas une science, c’est une manière de pen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temps investi aujourd’hui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ermettra d’obten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résultats de qualité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efficacité cert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satisfaction personnelle et professionnelle 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reconnaissance de vos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0B8E-C51F-4387-AA23-9CFB830678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i est responsable de la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6" descr="CamPic394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7" descr="small_group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7285_lores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3" descr="meeting_asia_1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4" descr="equip_calibrate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5" descr="uniocular_mic_cdc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Chacun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0A2E-57F3-4B2C-93E3-AFE5AAD362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638320" y="1904760"/>
            <a:ext cx="3505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65" descr="bulles_def"/>
          <p:cNvPicPr/>
          <p:nvPr/>
        </p:nvPicPr>
        <p:blipFill>
          <a:blip r:embed="rId1"/>
          <a:stretch/>
        </p:blipFill>
        <p:spPr>
          <a:xfrm>
            <a:off x="380880" y="1066680"/>
            <a:ext cx="486756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ED05-8EA0-4278-B0AD-DD7E5C5401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9"/>
          <p:cNvGrpSpPr/>
          <p:nvPr/>
        </p:nvGrpSpPr>
        <p:grpSpPr>
          <a:xfrm>
            <a:off x="3657600" y="3581280"/>
            <a:ext cx="3962520" cy="2079360"/>
            <a:chOff x="3657600" y="3581280"/>
            <a:chExt cx="3962520" cy="2079360"/>
          </a:xfrm>
        </p:grpSpPr>
        <p:sp>
          <p:nvSpPr>
            <p:cNvPr id="140" name="AutoShape 18"/>
            <p:cNvSpPr/>
            <p:nvPr/>
          </p:nvSpPr>
          <p:spPr>
            <a:xfrm>
              <a:off x="3657600" y="3581280"/>
              <a:ext cx="3962520" cy="20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" name="_s7194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7193"/>
            <p:cNvCxnSpPr>
              <a:stCxn id="145" idx="0"/>
              <a:endCxn id="14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" name="_s7192"/>
            <p:cNvCxnSpPr>
              <a:stCxn id="147" idx="0"/>
              <a:endCxn id="14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ssentiel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124080" y="1295280"/>
            <a:ext cx="57913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gagement pour une gestion soigneuse du systè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ne structure organisée conçue pour atteindre les objectifs de qual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MPj04017350000[1]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0A84-0571-4994-8C3A-4C8215D69E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ise en oe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rocessu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de pla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Contrôl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et améli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2"/>
          <p:cNvSpPr/>
          <p:nvPr/>
        </p:nvSpPr>
        <p:spPr>
          <a:xfrm rot="5400000">
            <a:off x="1218600" y="2286000"/>
            <a:ext cx="1523880" cy="7621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3"/>
          <p:cNvSpPr/>
          <p:nvPr/>
        </p:nvSpPr>
        <p:spPr>
          <a:xfrm rot="10800000">
            <a:off x="4114800" y="2743200"/>
            <a:ext cx="914400" cy="9907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4"/>
          <p:cNvSpPr/>
          <p:nvPr/>
        </p:nvSpPr>
        <p:spPr>
          <a:xfrm rot="5400000">
            <a:off x="6858000" y="2514600"/>
            <a:ext cx="1981440" cy="91440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31"/>
          <p:cNvGrpSpPr/>
          <p:nvPr/>
        </p:nvGrpSpPr>
        <p:grpSpPr>
          <a:xfrm>
            <a:off x="685800" y="3505320"/>
            <a:ext cx="2590920" cy="2361240"/>
            <a:chOff x="685800" y="3505320"/>
            <a:chExt cx="2590920" cy="2361240"/>
          </a:xfrm>
        </p:grpSpPr>
        <p:sp>
          <p:nvSpPr>
            <p:cNvPr id="160" name="AutoShape 30"/>
            <p:cNvSpPr/>
            <p:nvPr/>
          </p:nvSpPr>
          <p:spPr>
            <a:xfrm>
              <a:off x="685800" y="3505320"/>
              <a:ext cx="2590920" cy="23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" name="_s8230"/>
            <p:cNvCxnSpPr>
              <a:stCxn id="162" idx="0"/>
              <a:endCxn id="163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8229"/>
            <p:cNvCxnSpPr>
              <a:stCxn id="165" idx="0"/>
              <a:endCxn id="163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6" name="_s8228"/>
            <p:cNvCxnSpPr>
              <a:stCxn id="167" idx="0"/>
              <a:endCxn id="163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3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AutoShape 39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Direction, Rôles de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1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Structur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 organis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2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3"/>
          <p:cNvSpPr/>
          <p:nvPr/>
        </p:nvSpPr>
        <p:spPr>
          <a:xfrm rot="5400000">
            <a:off x="5520960" y="1946160"/>
            <a:ext cx="838080" cy="75564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4"/>
          <p:cNvSpPr/>
          <p:nvPr/>
        </p:nvSpPr>
        <p:spPr>
          <a:xfrm rot="5400000">
            <a:off x="4495680" y="4495680"/>
            <a:ext cx="1143000" cy="175248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439D-CA22-4B40-BF03-4235EE8432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ptitude à diri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exerçant un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torité responsab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motivan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 donnant une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influençant e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courageant 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ersonnel pour d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onnes perform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6" descr="10031_lores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F517-3623-4E9E-9962-7AF5C66696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es dirige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ise en oeuvre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mélioration continu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u système de gestion de la qualité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ocumenter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muniquer à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out le personnel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nir un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9" descr="a_19"/>
          <p:cNvPicPr/>
          <p:nvPr/>
        </p:nvPicPr>
        <p:blipFill>
          <a:blip r:embed="rId1"/>
          <a:stretch/>
        </p:blipFill>
        <p:spPr>
          <a:xfrm>
            <a:off x="3733920" y="2666880"/>
            <a:ext cx="50292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BFA2-71B3-4BB0-9077-9B5424FAFB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4" descr="j0385407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ngagement de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Black"/>
              </a:rPr>
              <a:t>Ministère de la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5181480" y="1219320"/>
            <a:ext cx="3276720" cy="82548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Gestion financ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2" descr="supplier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0" name="Picture 23" descr="j0216070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1" descr="head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192" name="PubOvalCallout"/>
          <p:cNvSpPr/>
          <p:nvPr/>
        </p:nvSpPr>
        <p:spPr>
          <a:xfrm rot="16200000">
            <a:off x="4038480" y="3885840"/>
            <a:ext cx="2057400" cy="3429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unions du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3628-2DFF-4F83-B74F-CED4A2620D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Organisationne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09480" y="1447920"/>
            <a:ext cx="77724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e structure de travail qui assure un flux suffisant dans toutes les parties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igner rôles et responsabil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un organi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signer un responsabl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llouer des ressources suffis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3:01:43Z</dcterms:modified>
  <cp:revision>132</cp:revision>
  <dc:subject/>
  <dc:title>Slide 1</dc:title>
</cp:coreProperties>
</file>